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876506"/>
        <c:axId val="42271858"/>
      </c:barChart>
      <c:catAx>
        <c:axId val="738765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271858"/>
        <c:crosses val="autoZero"/>
        <c:auto val="1"/>
        <c:lblAlgn val="ctr"/>
        <c:lblOffset val="100"/>
        <c:noMultiLvlLbl val="0"/>
      </c:catAx>
      <c:valAx>
        <c:axId val="422718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8765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98DB-5E11-4B56-8A7D-37BA9C626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07AC-001C-4C3C-A0AF-6AD6BC27C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6EE7-F1B7-464D-A0DD-ACB78287E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C8EA-092D-46E7-88A8-5025241CC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DDCC-B296-4362-AC23-7F3FA797A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63B8-DB32-41B4-8C47-BC5C1EF02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0B7C-E1B7-44BD-B50E-10E2860EC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A491-576E-405F-871D-6239CC958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06CC-CED8-4DB8-86F0-8AC632500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FFA8-3CE2-408E-B599-914B2B8B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1E8E-1EFE-4FD0-8339-11BB0950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6C2A-AC4E-4B21-9340-634F28F0E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4F29D0-014B-4BFE-84C5-8650781C7BB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