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91092"/>
        <c:axId val="88335002"/>
      </c:barChart>
      <c:catAx>
        <c:axId val="760910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35002"/>
        <c:crosses val="autoZero"/>
        <c:auto val="1"/>
        <c:lblAlgn val="ctr"/>
        <c:lblOffset val="100"/>
        <c:noMultiLvlLbl val="0"/>
      </c:catAx>
      <c:valAx>
        <c:axId val="883350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10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774-AECE-4A6F-AD62-C4EA93DF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6B7-112B-4087-80B2-E99F8269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590D-F905-4E21-B866-F7A0AE116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002B-60EF-4D8A-97B4-331235DA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552-2D00-46E4-BCDE-21EEC789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7D48-49D2-46CA-BF52-61384F38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108-204D-4767-96E1-EA636151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3C8C-FAEF-4F74-A16D-9B71343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43E-1ADD-46BA-982E-6EB14405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401-97B0-46F2-88F7-89D55F67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297-FDD9-42EE-9430-3C92C73D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E9D-6836-4E7F-836A-A19E5E39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42699-4883-431A-B9B6-23262BAF0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