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909667"/>
        <c:axId val="37459175"/>
      </c:barChart>
      <c:catAx>
        <c:axId val="309096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59175"/>
        <c:crosses val="autoZero"/>
        <c:auto val="1"/>
        <c:lblAlgn val="ctr"/>
        <c:lblOffset val="100"/>
        <c:noMultiLvlLbl val="0"/>
      </c:catAx>
      <c:valAx>
        <c:axId val="374591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096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20CD-FE5D-4086-9315-082365A7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CC8F-0A8A-4713-AEB6-2E619603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A709-121D-49AF-A8EF-8BCB103D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5176-E5DE-46A2-914A-7B49774B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3DA7-D392-44EC-9DB3-5302C1C3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1562-5593-4F6D-9B56-37102D02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F582-0CA3-41A0-B4DE-D2BDA84E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ACAB-065B-4406-AF8E-7C9AA6CC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A663-7B98-4986-B7F8-1AD664E5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1A7A-E464-49D5-82AA-15A879B1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B8C1-9574-4EE7-98FC-59FA6017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5793-CAAE-4121-A6B5-E9FDC20A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6D961-A827-41C6-99A5-7D27606259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