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09752"/>
        <c:axId val="5441494"/>
      </c:barChart>
      <c:catAx>
        <c:axId val="72509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494"/>
        <c:crosses val="autoZero"/>
        <c:auto val="1"/>
        <c:lblAlgn val="ctr"/>
        <c:lblOffset val="100"/>
        <c:noMultiLvlLbl val="0"/>
      </c:catAx>
      <c:valAx>
        <c:axId val="5441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9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595-A71B-4ADD-8613-D7CE7D2D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819-029D-4CC9-8148-472F8088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FE7-F164-4A52-A395-3F433798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C64-C1D1-44C1-83F8-5BA81815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86D-49F1-444C-8385-A9A83C4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089-D53E-408E-807D-A375CB5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C9D-EC19-4FE8-9203-AFB70257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F68-80B6-4362-A703-74D174C7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2D2-B172-4B53-A3A7-833D166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ED7-170A-45AC-85BE-4F4A1B65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E40-4EF4-4E49-8A51-AF71A67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569-1AF9-4CD8-9DF2-BDE5FCE3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56B94-0023-48B9-A743-B93C0D307D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