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529441"/>
        <c:axId val="59346918"/>
      </c:barChart>
      <c:catAx>
        <c:axId val="515294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346918"/>
        <c:crosses val="autoZero"/>
        <c:auto val="1"/>
        <c:lblAlgn val="ctr"/>
        <c:lblOffset val="100"/>
        <c:noMultiLvlLbl val="0"/>
      </c:catAx>
      <c:valAx>
        <c:axId val="593469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294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158B-D3AC-49EA-B4CA-5B434B9B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DB64-1617-4862-A869-1151A952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2687-23F3-4FF0-894E-D962289D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4313-C4AD-4C5B-B5B1-D428484C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8CC2-A870-41B9-A591-82BCB2CC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2492-D56E-4586-81E2-C5DD865E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3DC1-883A-4955-83C9-B28FA3C4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9EEF-E471-4DA0-9541-26D94EAA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9906-35BB-4B0E-AA52-878213DE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421D-CF11-44EE-BE6E-DF204A10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9230-F641-4E79-8772-4D8F1389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30DE-B93A-4216-B353-8B73E675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5C81A-12A0-4A61-A30D-F9447CBDAB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