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89918"/>
        <c:axId val="13117091"/>
      </c:barChart>
      <c:catAx>
        <c:axId val="98189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17091"/>
        <c:crosses val="autoZero"/>
        <c:auto val="1"/>
        <c:lblAlgn val="ctr"/>
        <c:lblOffset val="100"/>
        <c:noMultiLvlLbl val="0"/>
      </c:catAx>
      <c:valAx>
        <c:axId val="13117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89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CA7-A1B2-4AC2-9E78-D8B931DA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B0F-0FC7-4904-822F-AD1427E6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B1D-23E4-42BB-B247-E03040A5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9E6-F0AB-4398-A131-BB5EF27F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B98-BABF-4F77-8C69-37B214B0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5EA-938E-42B7-A1BF-970FE40F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6D6-D268-4048-B1F3-01BB4C46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D2C-7E04-4E03-8B60-12B133D8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E88-E214-45FF-B7DE-0B3549BE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94B-AB7C-407D-B0AA-FD9E244F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8B6-52D6-451E-8CBF-CE6BED4D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9ED-F7D8-4548-BFA6-7D8B9372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6B647-D95C-4EB0-84B5-F541DD04EB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