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76343"/>
        <c:axId val="70485825"/>
      </c:barChart>
      <c:catAx>
        <c:axId val="36176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85825"/>
        <c:crosses val="autoZero"/>
        <c:auto val="1"/>
        <c:lblAlgn val="ctr"/>
        <c:lblOffset val="100"/>
        <c:noMultiLvlLbl val="0"/>
      </c:catAx>
      <c:valAx>
        <c:axId val="70485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6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CB2-CD4D-48BE-BB13-7E82BBD1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60A-2704-40B2-A32C-2603FD1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408-E242-419F-8ACA-75DB013F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56C-1B39-43AE-BDEC-7B783035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B33-797C-4323-A8B1-942811A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ACE-F1F7-48E5-ABB2-4058B43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CA9-2A88-4B82-A67C-5B64A21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659-1A59-488F-876B-B232DC0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05A-1B47-4F62-B602-55BC23E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7A8-E128-4CE4-B6B2-0AE5A14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8B2-DCEE-4A45-BF43-114B585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4A9-D8A0-4577-AD8C-1640076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C1C5A-ABC0-4C1F-B2F6-30F01E0702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