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99898"/>
        <c:axId val="73130584"/>
      </c:barChart>
      <c:catAx>
        <c:axId val="11998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130584"/>
        <c:crosses val="autoZero"/>
        <c:auto val="1"/>
        <c:lblAlgn val="ctr"/>
        <c:lblOffset val="100"/>
        <c:noMultiLvlLbl val="0"/>
      </c:catAx>
      <c:valAx>
        <c:axId val="731305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998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5ACE-09C0-42EF-AF7A-CC070E040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D766-9CE6-4C7F-9320-5D3F269D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0333-149A-4329-82A0-F08F98DCB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5158-1BEC-49A8-A6AA-E7E38E270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DAB1-FAC2-48AD-97F6-8FB21A33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0CBA-63E5-4948-984B-91651300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D47D-FC0F-4FC2-A480-44ADA9B7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4E55-4689-4240-8CDF-8880C2A9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DEA1-DA58-4B42-A296-9C328E8E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E4E6-A49D-4E56-986F-F0CA72CD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E5AE-D740-4A2D-9217-C8BB78CD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F9CA-78F3-4635-9674-8DE50396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C74CC9-7FD5-4C36-A551-85DB1ED2A5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