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94957"/>
        <c:axId val="93713134"/>
      </c:barChart>
      <c:catAx>
        <c:axId val="56194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13134"/>
        <c:crosses val="autoZero"/>
        <c:auto val="1"/>
        <c:lblAlgn val="ctr"/>
        <c:lblOffset val="100"/>
        <c:noMultiLvlLbl val="0"/>
      </c:catAx>
      <c:valAx>
        <c:axId val="93713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94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B52-AB26-46B4-821F-BF282EA6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715-5F2F-43E1-89FD-0B6A9B99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4BF-67C4-4386-A097-10109F56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779-651E-4CB5-8155-D3FE408F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20B-C7FA-4BF6-9245-8B83C27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EA6-6853-44B1-B32C-B08605B1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C0F-21B7-4F3D-A4E9-982C7E0C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50A-43EE-45CC-A21C-47A338EB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186-72CB-4B71-93D1-4EC9F558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FCC-1F1D-4F22-B044-C51A173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628-5CA6-4CCB-935F-BA46A5C7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DDD-F92B-445B-827D-F8FA4CDA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54529-2A12-4F26-BF3C-CA319AD8EA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