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325421"/>
        <c:axId val="44929352"/>
      </c:barChart>
      <c:catAx>
        <c:axId val="983254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29352"/>
        <c:crosses val="autoZero"/>
        <c:auto val="1"/>
        <c:lblAlgn val="ctr"/>
        <c:lblOffset val="100"/>
        <c:noMultiLvlLbl val="0"/>
      </c:catAx>
      <c:valAx>
        <c:axId val="449293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254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335E-8261-4AB2-8B1B-8C8991F9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4B2E-C837-4E8A-807D-63BBA914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B6EC-47DB-4D69-BBE4-228E691E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57CF-878A-4E80-B540-06E18EBA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22F7-5425-485A-B42D-9FD8C537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ECDB-A545-4060-9E1E-92582E6D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9275-92C6-405D-8016-38A4887F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223B-A108-46D0-94D5-7BFE240D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3364-00E2-44EF-9A64-8492FD26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EA15-B2C0-4C82-A7B4-B9FBD7FA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FE81-E284-4018-9E4E-D8BDB7A4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5958-B142-41BC-ACE0-3C8FCDA2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31479-3163-4359-B929-15590703D3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