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74302"/>
        <c:axId val="22671204"/>
      </c:barChart>
      <c:catAx>
        <c:axId val="87974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71204"/>
        <c:crosses val="autoZero"/>
        <c:auto val="1"/>
        <c:lblAlgn val="ctr"/>
        <c:lblOffset val="100"/>
        <c:noMultiLvlLbl val="0"/>
      </c:catAx>
      <c:valAx>
        <c:axId val="22671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74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7F5-C5C2-429D-A52E-AF6558E2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824-279A-469A-BFB5-B9489481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111-FDCD-4A29-93FA-13CA9BFF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F56-EEE0-4556-AECD-2DE8883C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064-1A8E-46DD-A4D6-9AEEA283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D28-C18E-4EE3-B67A-D2FBB1EA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F4B-661C-4967-A5C6-2078D3D5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0DA-D2B4-45D0-BAC0-D09C1AAB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D31-6FC1-4C8D-8AA0-640D6F35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9E5-D392-4224-9BD0-B1D25498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EA7-F9DC-4E92-9C57-C872169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B46-9842-4480-AB89-81CEAA20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4EED4-77B7-4ACE-A0A1-EC565AFACA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